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1A48-63C5-4230-A94A-8B9A8D0E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892C-3153-4264-B25B-C61552FE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1F299-4029-4A9A-BC62-6D0573D9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441AF-056A-47F3-A950-E078307A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0E831-7F9F-4E8F-B5EA-1A940F40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90E6A-F101-4FE2-8591-879048EB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8E2C8-DE94-4FD6-A5C3-85ECE708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B3AFD-1B2F-40EF-A796-7EE10B7A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EC716-FEE1-4438-8CD7-16F5796F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D90B4-45D7-4365-A473-6F38B33D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6092A-8457-4F7D-8903-18D84DDF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DE0-F1FD-4D2F-BCA2-27789FC3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4174-A04E-4504-B435-DD7F7F1F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E431-F7B7-47BE-B5AC-934EEBC3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7D3B-0E8F-4321-9B8F-E8E54E07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93D6-0A27-4C39-AD05-5151FB59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ACB7-0D69-4768-AB38-C34F0F85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7337-8FB2-4DA8-B186-35B7C8BA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C556-68F7-4728-88D8-4EC93145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D77F-3467-475B-84A4-DF68806A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C8F3-D1D0-4A1D-9BB5-98233911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62F6-97DF-4E3F-B3AA-A1C848BA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ACC5-2926-43F1-B292-7BAE7A50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F9EC-B391-4B5B-A244-2FBB650F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2FD7-CC65-41DE-B336-263ADC97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2BB8-495E-40DD-9083-09C599B7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25266-B3D6-4626-9961-D2B6B1DD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F497C-4666-48C6-98EA-96C746C5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E0579-E7FB-46C4-B607-7B29DFDB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1904B-B6AA-4354-BAE3-4F1FB823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DEC8F-F350-481A-AC8C-FF6D3015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F13A-7979-4633-B299-6ADEDCEE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920E9-ADF7-4E11-8D16-2AF19737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0264E-605A-450A-9BC9-3E121E6B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5DC7E-D8F8-4A17-8981-761B592B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1103A-9B85-4183-8ADD-30071F0E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E5827-E37D-4135-B139-4BC55A56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B4C44-318D-4C97-A8C4-F9C68C64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56B20-DC5E-4934-8E1E-E8F834F4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63D44-5196-4187-BB93-7E68AB42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12399-EAA8-4B45-811E-803B0EEA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E6801-9119-4348-A516-89A00389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61E5-3779-40CF-9107-6B45F883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7CC5E-A86F-41CA-A204-D663B7CB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3414F-CE17-4432-9215-416B6A88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82875-7C07-4C0F-88E2-1CD08D03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DD61C-085B-416D-81F6-6B83B272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C7207-55B6-4751-93F3-FA98D44F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D3C8D-57D0-4518-898E-B7DF8FBC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815A9-DF4C-4626-980C-98CC2451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C5765-8F29-4A62-A4BF-C6B77B58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84C19-F503-461E-8783-E4296B4C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85E8F-A879-42A8-ADDA-FB3DEDDB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ABDC-1134-4F07-968B-33A4B01C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3B130-64C3-4433-996F-B3B51D60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3E465-0B7E-434F-B854-19A230DD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AEE29-F295-4261-9D1F-A3747036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57A1C-7412-4424-AB3D-B4557CC5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FDAA3-D4F4-4A43-B5A9-89890A33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CDECB-8E97-4A80-B131-A478A3B4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68145-3496-4FE4-96D2-A6A08783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1A168-09E0-468C-BC3C-398B54BC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1D420-7A13-4ED9-97D4-0CCF3FE5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F9FF8-B9CE-4879-A827-2DD3AECC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DA9-632E-4652-8B1B-1117468F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3B389-60B6-4B60-A993-4A4197A5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7F352-0F68-411D-B15D-1BA7C281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E2B24-4652-4EF5-B37A-4733663D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34610-EF62-4122-91CC-0A48BB65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83A64-AF61-47AA-B49D-2B1765DE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339B1-01F1-408F-A115-E0C3B0BD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50EFF-C239-4F2F-B9CC-F3FB850E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7E15C-FE65-48B3-859E-9E2B19BC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C36A0-6940-4E7C-A4A1-8298B788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5F3CC-DD98-4E39-8A6E-997F131C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8184-45C2-4558-AE58-59A83422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A0561-F96E-4053-9E7F-25B2EA98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27056-079F-4EAD-90DE-ADD08BF0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CE859-9850-416D-8D34-3F4F61B3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63BEE-DB6E-4394-BBE7-601B991B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7D6DF-B3B3-4EAC-A0BF-FFA21934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C1C4C-F45B-4169-8EEE-00121493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7FA86-4FCE-4461-BFE5-3B1F368D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C6249-5900-4B6B-BDE4-9E67C9B3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7D13D-3EB2-48CD-8CF3-79B67794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9E9C6-ADC3-4C6A-8504-F5E70EE5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446F-8499-42EE-9E14-1F2C2406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A71C8-4BCC-4948-B6BF-324D4B6E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A4D05-BBF7-4899-A010-B71F97E5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7BEDF-E309-49D0-A117-E08604BD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758FB-D034-44D1-AE09-5B83F31B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18487-5258-4E92-B3AE-8CBD7CE6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8282C-BCBC-4E1A-8C54-B9878A61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C9935-8A8C-48A2-8173-ED5C385A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0152B-05EB-440D-9E92-D55DDD8B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DC023-9717-42E6-AC44-F8F3F036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A62EE-C7D5-47B3-B31F-B85EE615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3C3D-78F9-447A-95C9-172E23B9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7FA6D-1837-4F89-A93E-26F8924D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FC04E-DFEA-4E17-A43C-144B9E73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C1C6F-4E50-45AA-8E37-C5B1DCB4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CB656-BEDA-4631-8141-166B23FB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88C07-1D8A-4217-8FF6-662B6DE3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8810A-49A9-4BB3-B193-C037C6B9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E533B-FB1A-460F-8BEF-6AA50E37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5712C-6633-4C42-B7ED-44F9FE3B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F0D6E-CE4F-4D41-A91D-1970C274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C8FD2-0552-4DF1-93C8-39BF8159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0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1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2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72BD-DFA5-44BD-841D-83575A818B9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5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5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5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6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6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6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64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65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66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6DA0-7965-41AD-A342-5CB61F7B86E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09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10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11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12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114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15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117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18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19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20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121" name="Group 23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22" name="Chevron 9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23" name="Rectangle 22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2312-0DFC-4678-B603-86DF6895E07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66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67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68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69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171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72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174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75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76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77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C8C9-25C3-47C3-85F5-B3FA3144868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20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21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22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23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225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26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228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29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0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1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232" name="Group 7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33" name="Chevron 8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34" name="Rectangle 9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8EEC-3FA9-4EAE-8528-E3A78A1C62D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77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78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79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80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282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83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285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86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87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88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289" name="Group 9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90" name="Chevron 10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91" name="Rectangle 11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08FA-924A-4577-AED8-37D15FA2509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34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35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36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37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339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40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342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343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344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345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346" name="Group 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347" name="Chevron 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348" name="Rectangle 7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0130-3A67-4269-A991-E5921B89355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9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9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9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9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39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9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39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00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01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02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E7B9-56DC-4B2A-9A31-FE9AADD9FA5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4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44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44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4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45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45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45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54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55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56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457" name="Group 6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458" name="Chevron 7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59" name="Rectangle 8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AE4A-5CE0-4AE1-9C1A-7D1F798AF6B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gwiikurs-ikt.wikispaces.com/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://ingwiikurs-ikt.wikispaces.com/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hyperlink" Target="http://www.vgskole.net/teachers/norsk/generelt/blogging.php" TargetMode="External"/><Relationship Id="rId5" Type="http://schemas.openxmlformats.org/officeDocument/2006/relationships/hyperlink" Target="http://leifh.blogspot.com/" TargetMode="External"/><Relationship Id="rId6" Type="http://schemas.openxmlformats.org/officeDocument/2006/relationships/hyperlink" Target="http://tanketraader-ingunn.blogspot.com/" TargetMode="External"/><Relationship Id="rId7" Type="http://schemas.openxmlformats.org/officeDocument/2006/relationships/hyperlink" Target="http://lektoraksnes.blogspot.com/" TargetMode="External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spindellett.net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jeanetteskreativeutbrudd.blogspot.com/" TargetMode="External"/><Relationship Id="rId2" Type="http://schemas.openxmlformats.org/officeDocument/2006/relationships/hyperlink" Target="http://jeanetteskreativeutbrudd.blogspot.com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ersonalizemedia.com/garys-social-media-count/" TargetMode="External"/><Relationship Id="rId2" Type="http://schemas.openxmlformats.org/officeDocument/2006/relationships/hyperlink" Target="http://www.personalizemedia.com/garys-social-media-count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uninettabc.no/content.ap?thisId=11560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Tittel 1" descr=""/>
          <p:cNvPicPr/>
          <p:nvPr/>
        </p:nvPicPr>
        <p:blipFill>
          <a:blip r:embed="rId1"/>
          <a:stretch/>
        </p:blipFill>
        <p:spPr>
          <a:xfrm>
            <a:off x="682560" y="1852560"/>
            <a:ext cx="8077320" cy="148104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20620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898989"/>
                </a:solidFill>
                <a:latin typeface="Cambria"/>
              </a:rPr>
              <a:t>- og noen norskblogger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000080" y="357120"/>
            <a:ext cx="7105680" cy="1314360"/>
          </a:xfrm>
          <a:prstGeom prst="rect">
            <a:avLst/>
          </a:prstGeom>
          <a:ln w="0">
            <a:noFill/>
          </a:ln>
        </p:spPr>
      </p:pic>
      <p:sp>
        <p:nvSpPr>
          <p:cNvPr id="519" name="Rektangel 2"/>
          <p:cNvSpPr/>
          <p:nvPr/>
        </p:nvSpPr>
        <p:spPr>
          <a:xfrm>
            <a:off x="1185480" y="107172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ffff"/>
                </a:solidFill>
                <a:latin typeface="Arial"/>
                <a:ea typeface="Arial"/>
              </a:rPr>
              <a:t>Hvordan bruke blogg i undervisningen?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0" name="Rektangel 3"/>
          <p:cNvSpPr/>
          <p:nvPr/>
        </p:nvSpPr>
        <p:spPr>
          <a:xfrm>
            <a:off x="1000080" y="1857240"/>
            <a:ext cx="728676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Cambria"/>
              </a:rPr>
              <a:t>Blogg kan brukes i alle fag og på alle nivåer. Det mest vanlige er at en klasse jobber med blogg gjennom ett eller flere skoleår. </a:t>
            </a:r>
            <a:r>
              <a:rPr b="0" lang="nb-NO" sz="1400" spc="-1" strike="noStrike">
                <a:solidFill>
                  <a:srgbClr val="996699"/>
                </a:solidFill>
                <a:latin typeface="Cambria"/>
              </a:rPr>
              <a:t>Hvis målet er at elevene skal bli bedre skribenter, gir bloggen mulighet for jevnlig skriving med mindre skriveoppgaver. </a:t>
            </a:r>
            <a:r>
              <a:rPr b="0" lang="nb-NO" sz="1400" spc="-1" strike="noStrike">
                <a:solidFill>
                  <a:srgbClr val="000000"/>
                </a:solidFill>
                <a:latin typeface="Cambria"/>
              </a:rPr>
              <a:t>Du kan poste oppgaven på lærerbloggen og be elevene poste sine svar på egne blogger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996699"/>
                </a:solidFill>
                <a:latin typeface="Cambria"/>
              </a:rPr>
              <a:t>På barnetrinnet kan det som nevnt være mest aktuelt å ha én klasseblogg som elevene kan bidra til ved å sende e-post til læreren eller rett til bloggen. </a:t>
            </a:r>
            <a:r>
              <a:rPr b="0" lang="nb-NO" sz="1400" spc="-1" strike="noStrike">
                <a:solidFill>
                  <a:srgbClr val="000000"/>
                </a:solidFill>
                <a:latin typeface="Cambria"/>
              </a:rPr>
              <a:t>Her kan man også invitere inn andre til å skrive, for eksempel fagfolk eller profiler fra lokalsamfunnet. En prosjektoppgave om lokalhistorie kan utdypes med innlegg fra folk i nærmiljøet. Om de ikke har mulighet til å skrive innleggene selv, kan elevene utstyres med en lydopptaker eller et enkelt videokamera og så intervjue den aktuelle personen. Resultatet kan postes på klassebloggen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996699"/>
                </a:solidFill>
                <a:latin typeface="Cambria"/>
              </a:rPr>
              <a:t>Blogging egner seg godt til å publisere og reflektere rundt egne digitale arbeider. </a:t>
            </a:r>
            <a:r>
              <a:rPr b="0" lang="nb-NO" sz="1400" spc="-1" strike="noStrike">
                <a:solidFill>
                  <a:srgbClr val="000000"/>
                </a:solidFill>
                <a:latin typeface="Cambria"/>
              </a:rPr>
              <a:t>Mange lærere bruker derfor blogg i formgivningsfag. </a:t>
            </a:r>
            <a:r>
              <a:rPr b="0" lang="nb-NO" sz="1400" spc="-1" strike="noStrike">
                <a:solidFill>
                  <a:srgbClr val="996699"/>
                </a:solidFill>
                <a:latin typeface="Cambria"/>
              </a:rPr>
              <a:t>Elevene tar egne bilder, lager montasjer eller annet.</a:t>
            </a:r>
            <a:r>
              <a:rPr b="0" lang="nb-NO" sz="1400" spc="-1" strike="noStrike">
                <a:solidFill>
                  <a:srgbClr val="000000"/>
                </a:solidFill>
                <a:latin typeface="Cambria"/>
              </a:rPr>
              <a:t> Et blogginnlegg inneholder det digitale produktet og en tekst som beskriver valgene elevene har gjort i prosessen med å lage produktet. Bloggen blir elevens portefølje. Hver elev kan selv merke sine beste arbeider med for eksempel "utvalgte", og bloggen kan dermed brukes for mappevurdering. I et eget blogginnlegg kan eleven reflektere rundt utvalget hun eller han har gjort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mbria"/>
              </a:rPr>
              <a:t>(Fra Blogg i undervisningen, Uninett ABC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1976400" y="2205000"/>
            <a:ext cx="5191200" cy="2448000"/>
          </a:xfrm>
          <a:prstGeom prst="rect">
            <a:avLst/>
          </a:prstGeom>
          <a:ln w="0">
            <a:noFill/>
          </a:ln>
        </p:spPr>
      </p:pic>
      <p:sp>
        <p:nvSpPr>
          <p:cNvPr id="522" name="TekstSylinder 2"/>
          <p:cNvSpPr/>
          <p:nvPr/>
        </p:nvSpPr>
        <p:spPr>
          <a:xfrm>
            <a:off x="1285920" y="528624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Cambria"/>
              </a:rPr>
              <a:t>Fra Ingunn Kjøl Wiigs forslag til vurderingskriterier for blogger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857160"/>
            <a:ext cx="5886360" cy="4810320"/>
          </a:xfrm>
          <a:prstGeom prst="rect">
            <a:avLst/>
          </a:prstGeom>
          <a:ln w="0">
            <a:noFill/>
          </a:ln>
        </p:spPr>
      </p:pic>
      <p:sp>
        <p:nvSpPr>
          <p:cNvPr id="524" name="Rektangel 2"/>
          <p:cNvSpPr/>
          <p:nvPr/>
        </p:nvSpPr>
        <p:spPr>
          <a:xfrm>
            <a:off x="1656000" y="5857920"/>
            <a:ext cx="38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 u="sng">
                <a:solidFill>
                  <a:srgbClr val="e78707"/>
                </a:solidFill>
                <a:uFillTx/>
                <a:latin typeface="Cambria"/>
                <a:hlinkClick r:id="rId3"/>
              </a:rPr>
              <a:t>http://ingwiikurs-ikt.wikispaces.com/</a:t>
            </a:r>
            <a:r>
              <a:rPr b="0" lang="nb-NO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5" descr="http://bp3.blogger.com/_QJAPy-AW_Lg/RyTZBS9gocI/AAAAAAAAABE/IGCp0F0R-ls/s400/039+-+Kopi.JPG"/>
          <p:cNvPicPr/>
          <p:nvPr/>
        </p:nvPicPr>
        <p:blipFill>
          <a:blip r:embed="rId1"/>
          <a:stretch/>
        </p:blipFill>
        <p:spPr>
          <a:xfrm>
            <a:off x="7429680" y="4572000"/>
            <a:ext cx="1214280" cy="1176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9" descr="http://www.universitetsforlaget.no/imageResize?marketplaceId=200&amp;languageId=1&amp;contentItemId=15757462&amp;width=150"/>
          <p:cNvPicPr/>
          <p:nvPr/>
        </p:nvPicPr>
        <p:blipFill>
          <a:blip r:embed="rId2"/>
          <a:stretch/>
        </p:blipFill>
        <p:spPr>
          <a:xfrm>
            <a:off x="5908680" y="4572000"/>
            <a:ext cx="936720" cy="11430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7" descr="http://www.hibo.no/neted/upload/img/1107425355.pjpeg"/>
          <p:cNvPicPr/>
          <p:nvPr/>
        </p:nvPicPr>
        <p:blipFill>
          <a:blip r:embed="rId3"/>
          <a:stretch/>
        </p:blipFill>
        <p:spPr>
          <a:xfrm>
            <a:off x="4378320" y="4572000"/>
            <a:ext cx="836640" cy="1143000"/>
          </a:xfrm>
          <a:prstGeom prst="rect">
            <a:avLst/>
          </a:prstGeom>
          <a:ln w="0">
            <a:noFill/>
          </a:ln>
        </p:spPr>
      </p:pic>
      <p:sp>
        <p:nvSpPr>
          <p:cNvPr id="528" name="TekstSylinder 1"/>
          <p:cNvSpPr/>
          <p:nvPr/>
        </p:nvSpPr>
        <p:spPr>
          <a:xfrm>
            <a:off x="3000240" y="71424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mbria"/>
              </a:rPr>
              <a:t>Norskblogg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9" name="TekstSylinder 2"/>
          <p:cNvSpPr/>
          <p:nvPr/>
        </p:nvSpPr>
        <p:spPr>
          <a:xfrm>
            <a:off x="571680" y="1285920"/>
            <a:ext cx="77864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 u="sng">
                <a:solidFill>
                  <a:srgbClr val="e78707"/>
                </a:solidFill>
                <a:uFillTx/>
                <a:latin typeface="Cambria"/>
                <a:hlinkClick r:id="rId4"/>
              </a:rPr>
              <a:t>To blog or not to blog</a:t>
            </a: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Norsklærer med digitalt grensesnitt (Leif Harboe):</a:t>
            </a:r>
            <a:br>
              <a:rPr sz="1600"/>
            </a:br>
            <a:r>
              <a:rPr b="0" lang="nb-NO" sz="1600" spc="-1" strike="noStrike" u="sng">
                <a:solidFill>
                  <a:srgbClr val="e78707"/>
                </a:solidFill>
                <a:uFillTx/>
                <a:latin typeface="Cambria"/>
                <a:hlinkClick r:id="rId5"/>
              </a:rPr>
              <a:t>http://leifh.blogspot.com/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Tanketråder – fra en lektors hverdag (Ingunn Kjøl Wiig):</a:t>
            </a:r>
            <a:br>
              <a:rPr sz="1600"/>
            </a:br>
            <a:r>
              <a:rPr b="0" lang="nb-NO" sz="1600" spc="-1" strike="noStrike" u="sng">
                <a:solidFill>
                  <a:srgbClr val="e78707"/>
                </a:solidFill>
                <a:uFillTx/>
                <a:latin typeface="Cambria"/>
                <a:hlinkClick r:id="rId6"/>
              </a:rPr>
              <a:t>http://tanketraader-ingunn.blogspot.com/</a:t>
            </a: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Lektor Aksnes’ skoleblogg (Marita Aksnes):</a:t>
            </a:r>
            <a:br>
              <a:rPr sz="1600"/>
            </a:br>
            <a:r>
              <a:rPr b="0" lang="nb-NO" sz="1600" spc="-1" strike="noStrike" u="sng">
                <a:solidFill>
                  <a:srgbClr val="e78707"/>
                </a:solidFill>
                <a:uFillTx/>
                <a:latin typeface="Cambria"/>
                <a:hlinkClick r:id="rId7"/>
              </a:rPr>
              <a:t>http://lektoraksnes.blogspot.com/</a:t>
            </a: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Digitale tekster i Buskerud (Marita Aksnes): http://buskerudblogg.blogspot.com/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IKT i norsk (Thomas):</a:t>
            </a:r>
            <a:br>
              <a:rPr sz="1600"/>
            </a:b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http://iktinorsk.blogspot.com/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LNU oversikt norskblogger: http://www.norskundervisning.no/index.php?option=com_weblinks&amp;view=category&amp;id=10&amp;Itemid=3  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8"/>
          <a:stretch/>
        </p:blipFill>
        <p:spPr>
          <a:xfrm>
            <a:off x="6786720" y="714240"/>
            <a:ext cx="1895400" cy="20289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" descr=""/>
          <p:cNvPicPr/>
          <p:nvPr/>
        </p:nvPicPr>
        <p:blipFill>
          <a:blip r:embed="rId9"/>
          <a:stretch/>
        </p:blipFill>
        <p:spPr>
          <a:xfrm>
            <a:off x="7358040" y="2928960"/>
            <a:ext cx="13334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kstSylinder 1"/>
          <p:cNvSpPr/>
          <p:nvPr/>
        </p:nvSpPr>
        <p:spPr>
          <a:xfrm>
            <a:off x="2000160" y="571500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Cambria"/>
              </a:rPr>
              <a:t>Del og bruk, d &amp; b, Del det du har, bruk det du får: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Cambria"/>
              </a:rPr>
              <a:t> http://delogbruk.ning.com/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1500120" y="500040"/>
            <a:ext cx="605304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kstSylinder 1"/>
          <p:cNvSpPr/>
          <p:nvPr/>
        </p:nvSpPr>
        <p:spPr>
          <a:xfrm>
            <a:off x="1428840" y="785880"/>
            <a:ext cx="621504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mbria"/>
              </a:rPr>
              <a:t>Bloggoppgav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Lag et innlegg/en post om våren med minst ett vårbilde du selv har tatt, ledsaget av din egen vårlige tekst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Skriv et dikt som du poster i bloggen din – med bilde tatt og behandlet av deg selv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Publiser ei Photo Story-fortelling i bloggen din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1733400" y="2724120"/>
            <a:ext cx="56772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1747800" y="995400"/>
            <a:ext cx="564840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571680" y="357120"/>
            <a:ext cx="5581440" cy="48387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" descr=""/>
          <p:cNvPicPr/>
          <p:nvPr/>
        </p:nvPicPr>
        <p:blipFill>
          <a:blip r:embed="rId2"/>
          <a:stretch/>
        </p:blipFill>
        <p:spPr>
          <a:xfrm>
            <a:off x="571680" y="4643280"/>
            <a:ext cx="5724360" cy="1124280"/>
          </a:xfrm>
          <a:prstGeom prst="rect">
            <a:avLst/>
          </a:prstGeom>
          <a:ln w="0">
            <a:noFill/>
          </a:ln>
        </p:spPr>
      </p:pic>
      <p:sp>
        <p:nvSpPr>
          <p:cNvPr id="507" name="Rektangel 4"/>
          <p:cNvSpPr/>
          <p:nvPr/>
        </p:nvSpPr>
        <p:spPr>
          <a:xfrm>
            <a:off x="5011200" y="592920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Cambria"/>
              </a:rPr>
              <a:t>Fra bloggen </a:t>
            </a:r>
            <a:r>
              <a:rPr b="0" lang="nb-NO" sz="1800" spc="-1" strike="noStrike" u="sng">
                <a:solidFill>
                  <a:srgbClr val="e78707"/>
                </a:solidFill>
                <a:uFillTx/>
                <a:latin typeface="Cambria"/>
                <a:hlinkClick r:id="rId3"/>
              </a:rPr>
              <a:t>http://spindellett.net/</a:t>
            </a:r>
            <a:r>
              <a:rPr b="0" lang="nb-NO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8" name="TekstSylinder 5"/>
          <p:cNvSpPr/>
          <p:nvPr/>
        </p:nvSpPr>
        <p:spPr>
          <a:xfrm>
            <a:off x="6643800" y="1928880"/>
            <a:ext cx="1785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Calibri"/>
                <a:ea typeface="Calibri"/>
              </a:rPr>
              <a:t>Dette likte jeg. Bildene. Ordspillene. Fortellinga fra din barndoms skole. Jeg kjenner meg igjen. Forventningene. De kjenner jeg på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kstSylinder 1"/>
          <p:cNvSpPr/>
          <p:nvPr/>
        </p:nvSpPr>
        <p:spPr>
          <a:xfrm>
            <a:off x="1357200" y="500040"/>
            <a:ext cx="657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Cambria"/>
              </a:rPr>
              <a:t>”</a:t>
            </a:r>
            <a:r>
              <a:rPr b="0" lang="nb-NO" sz="1800" spc="-1" strike="noStrike">
                <a:solidFill>
                  <a:srgbClr val="000000"/>
                </a:solidFill>
                <a:latin typeface="Cambria"/>
              </a:rPr>
              <a:t>Jeg ser mye som inspirerer meg, derfor lagde jeg en blogg”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mbria"/>
              </a:rPr>
              <a:t>Jeanette Landfald Bækkevold: </a:t>
            </a:r>
            <a:r>
              <a:rPr b="0" lang="nb-NO" sz="1200" spc="-1" strike="noStrike" u="sng">
                <a:solidFill>
                  <a:srgbClr val="e78707"/>
                </a:solidFill>
                <a:uFillTx/>
                <a:latin typeface="Cambria"/>
                <a:hlinkClick r:id="rId1"/>
              </a:rPr>
              <a:t>http://jeanetteskreativeutbrudd.blogspot.com/</a:t>
            </a:r>
            <a:r>
              <a:rPr b="0" lang="nb-NO" sz="1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0" name="TekstSylinder 2"/>
          <p:cNvSpPr/>
          <p:nvPr/>
        </p:nvSpPr>
        <p:spPr>
          <a:xfrm>
            <a:off x="1643040" y="571500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Cambria"/>
              </a:rPr>
              <a:t>Vær positiv. Sosiale medier handler mye om å dele og trekke hverandre opp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1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85920" y="1143000"/>
            <a:ext cx="66484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ktangel 3"/>
          <p:cNvSpPr/>
          <p:nvPr/>
        </p:nvSpPr>
        <p:spPr>
          <a:xfrm>
            <a:off x="1071720" y="592920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 u="sng">
                <a:solidFill>
                  <a:srgbClr val="e78707"/>
                </a:solidFill>
                <a:uFillTx/>
                <a:latin typeface="Cambria"/>
                <a:hlinkClick r:id="rId1"/>
              </a:rPr>
              <a:t>http://www.personalizemedia.com/garys-social-media-count/</a:t>
            </a:r>
            <a:r>
              <a:rPr b="0" lang="nb-NO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3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5880" y="428760"/>
            <a:ext cx="496728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447840" y="576360"/>
            <a:ext cx="824832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9720" y="876240"/>
            <a:ext cx="7324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ktangel 2"/>
          <p:cNvSpPr/>
          <p:nvPr/>
        </p:nvSpPr>
        <p:spPr>
          <a:xfrm>
            <a:off x="1071720" y="1785960"/>
            <a:ext cx="7215120" cy="41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996699"/>
                </a:solidFill>
                <a:latin typeface="Cambria"/>
              </a:rPr>
              <a:t>Blogg egner seg godt til å produsere sammensatte tekster med lenker, bilder og videoer. Elevene må søke etter ressurser og nettsider, sette inn disse i bloggen og legge inn riktige kildehenvisninger. På den måten utvikler de informasjonskompetanse og digital kompetanse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996699"/>
                </a:solidFill>
                <a:latin typeface="Cambria"/>
              </a:rPr>
              <a:t>Blogging er også god skrivetrening. Skriftlig fremstilling er en av fem grunnleggende ferdigheter elevene skal lære. Med blogging over tid får elevene mulighet til å utvikle seg som skribenter og finne sin stemme.</a:t>
            </a: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 De kan ta i bruk et nytt vokabular og forme egne meninger. Ved hjelp av kommentarfunksjonen i bloggen kan elevene få tilbakemeldinger fra hverandre eller potensielt fra hele verden, hvis bloggen er åpen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996699"/>
                </a:solidFill>
                <a:latin typeface="Cambria"/>
              </a:rPr>
              <a:t>Åpne blogger gjør at elevene får skrive for et ekte publikum og ikke bare for læreren. Det gir skrivingen autentisitet og arbeidslivsrelevans. </a:t>
            </a:r>
            <a:r>
              <a:rPr b="0" lang="nb-NO" sz="1600" spc="-1" strike="noStrike">
                <a:solidFill>
                  <a:srgbClr val="000000"/>
                </a:solidFill>
                <a:latin typeface="Cambria"/>
              </a:rPr>
              <a:t>Åpne blogger gjør også at man kan samarbeid på tvers av skoler, for eksempel med en blogg-vennskapsklasse på en annen skole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mbria"/>
              </a:rPr>
              <a:t>(Fra Blogg i undervisningen, Uninett ABC)</a:t>
            </a:r>
            <a:r>
              <a:rPr b="0" lang="nb-NO" sz="12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1143000" y="214200"/>
            <a:ext cx="708660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54:35Z</dcterms:created>
  <dc:creator>seni</dc:creator>
  <dc:description/>
  <dc:language>en-US</dc:language>
  <cp:lastModifiedBy>seni</cp:lastModifiedBy>
  <dcterms:modified xsi:type="dcterms:W3CDTF">2010-04-20T18:47:15Z</dcterms:modified>
  <cp:revision>98</cp:revision>
  <dc:subject/>
  <dc:title>Blogging i norskfaget</dc:title>
</cp:coreProperties>
</file>